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7A9C-4649-4868-8333-F9C32EFD4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C9A0-B0E8-45C6-B1FB-A1BAE20C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2A17-FA54-48BD-8BBB-408D97765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5634-8FD7-4C6C-932B-FBCB1907F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030E-437E-469F-AEEE-5A60D302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B352-D34C-4E6B-B008-A4240A0A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0A66-2571-4557-99FD-5DCA710F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3765-862B-4FF8-B5AD-FE4762A2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F1B6-F7E3-41D3-9FAD-14EE7669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3F12-A218-4EA5-A141-A8F57107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8C6C-8DF5-4353-8F7F-359FED45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3F46-663A-40F1-924F-CB11E4D9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0498-3094-41F0-B3F5-A59C97B34E8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British East India Compa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315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From around 1600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AD</a:t>
            </a: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 the British East India Company (EIC) started trading with India in goods such as spices, silk and te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By 1700 the EIC had set-up three trading posts, in Bombay, Madras and Calcutta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5" descr="BritishIndiaMap"/>
          <p:cNvPicPr/>
          <p:nvPr/>
        </p:nvPicPr>
        <p:blipFill>
          <a:blip r:embed="rId1"/>
          <a:stretch/>
        </p:blipFill>
        <p:spPr>
          <a:xfrm>
            <a:off x="182880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Ink 6"/>
          <p:cNvSpPr/>
          <p:nvPr/>
        </p:nvSpPr>
        <p:spPr>
          <a:xfrm>
            <a:off x="4699080" y="5105520"/>
            <a:ext cx="85680" cy="91800"/>
          </a:xfrm>
          <a:custGeom>
            <a:avLst/>
            <a:gdLst/>
            <a:ahLst/>
            <a:rect l="l" t="t" r="r" b="b"/>
            <a:pathLst>
              <a:path w="239" h="254">
                <a:moveTo>
                  <a:pt x="13241" y="14323"/>
                </a:moveTo>
                <a:cubicBezTo>
                  <a:pt x="13223" y="14312"/>
                  <a:pt x="13210" y="14310"/>
                  <a:pt x="13189" y="14307"/>
                </a:cubicBezTo>
                <a:cubicBezTo>
                  <a:pt x="13170" y="14305"/>
                  <a:pt x="13147" y="14308"/>
                  <a:pt x="13131" y="14296"/>
                </a:cubicBezTo>
                <a:cubicBezTo>
                  <a:pt x="13111" y="14281"/>
                  <a:pt x="13111" y="14267"/>
                  <a:pt x="13114" y="14243"/>
                </a:cubicBezTo>
                <a:cubicBezTo>
                  <a:pt x="13115" y="14237"/>
                  <a:pt x="13116" y="14232"/>
                  <a:pt x="13117" y="14226"/>
                </a:cubicBezTo>
                <a:cubicBezTo>
                  <a:pt x="13130" y="14205"/>
                  <a:pt x="13140" y="14186"/>
                  <a:pt x="13169" y="14187"/>
                </a:cubicBezTo>
                <a:cubicBezTo>
                  <a:pt x="13201" y="14188"/>
                  <a:pt x="13228" y="14211"/>
                  <a:pt x="13248" y="14234"/>
                </a:cubicBezTo>
                <a:cubicBezTo>
                  <a:pt x="13276" y="14266"/>
                  <a:pt x="13296" y="14309"/>
                  <a:pt x="13285" y="14352"/>
                </a:cubicBezTo>
                <a:cubicBezTo>
                  <a:pt x="13278" y="14378"/>
                  <a:pt x="13263" y="14387"/>
                  <a:pt x="13244" y="14402"/>
                </a:cubicBezTo>
                <a:cubicBezTo>
                  <a:pt x="13200" y="14416"/>
                  <a:pt x="13165" y="14414"/>
                  <a:pt x="13128" y="14381"/>
                </a:cubicBezTo>
                <a:cubicBezTo>
                  <a:pt x="13093" y="14350"/>
                  <a:pt x="13081" y="14294"/>
                  <a:pt x="13094" y="14250"/>
                </a:cubicBezTo>
                <a:cubicBezTo>
                  <a:pt x="13105" y="14212"/>
                  <a:pt x="13134" y="14200"/>
                  <a:pt x="13168" y="14189"/>
                </a:cubicBezTo>
                <a:cubicBezTo>
                  <a:pt x="13212" y="14194"/>
                  <a:pt x="13246" y="14208"/>
                  <a:pt x="13257" y="14257"/>
                </a:cubicBezTo>
                <a:cubicBezTo>
                  <a:pt x="13265" y="14294"/>
                  <a:pt x="13254" y="14332"/>
                  <a:pt x="13230" y="14361"/>
                </a:cubicBezTo>
                <a:cubicBezTo>
                  <a:pt x="13213" y="14382"/>
                  <a:pt x="13180" y="14411"/>
                  <a:pt x="13150" y="14404"/>
                </a:cubicBezTo>
                <a:cubicBezTo>
                  <a:pt x="13131" y="14394"/>
                  <a:pt x="13124" y="14390"/>
                  <a:pt x="13116" y="14378"/>
                </a:cubicBezTo>
                <a:cubicBezTo>
                  <a:pt x="13107" y="14340"/>
                  <a:pt x="13104" y="14306"/>
                  <a:pt x="13121" y="14268"/>
                </a:cubicBezTo>
                <a:cubicBezTo>
                  <a:pt x="13138" y="14231"/>
                  <a:pt x="13171" y="14198"/>
                  <a:pt x="13214" y="14197"/>
                </a:cubicBezTo>
                <a:cubicBezTo>
                  <a:pt x="13221" y="14199"/>
                  <a:pt x="13229" y="14200"/>
                  <a:pt x="13236" y="14202"/>
                </a:cubicBezTo>
                <a:cubicBezTo>
                  <a:pt x="13267" y="14227"/>
                  <a:pt x="13278" y="14248"/>
                  <a:pt x="13274" y="14291"/>
                </a:cubicBezTo>
                <a:cubicBezTo>
                  <a:pt x="13270" y="14336"/>
                  <a:pt x="13242" y="14380"/>
                  <a:pt x="13209" y="14409"/>
                </a:cubicBezTo>
                <a:cubicBezTo>
                  <a:pt x="13176" y="14438"/>
                  <a:pt x="13151" y="14439"/>
                  <a:pt x="13112" y="14428"/>
                </a:cubicBezTo>
                <a:cubicBezTo>
                  <a:pt x="13084" y="14399"/>
                  <a:pt x="13068" y="14373"/>
                  <a:pt x="13072" y="14330"/>
                </a:cubicBezTo>
                <a:cubicBezTo>
                  <a:pt x="13075" y="14288"/>
                  <a:pt x="13101" y="14248"/>
                  <a:pt x="13134" y="14224"/>
                </a:cubicBezTo>
                <a:cubicBezTo>
                  <a:pt x="13161" y="14204"/>
                  <a:pt x="13198" y="14193"/>
                  <a:pt x="13230" y="14208"/>
                </a:cubicBezTo>
                <a:cubicBezTo>
                  <a:pt x="13246" y="14220"/>
                  <a:pt x="13251" y="14224"/>
                  <a:pt x="13260" y="14234"/>
                </a:cubicBezTo>
                <a:cubicBezTo>
                  <a:pt x="13268" y="14267"/>
                  <a:pt x="13270" y="14285"/>
                  <a:pt x="13249" y="14314"/>
                </a:cubicBezTo>
                <a:cubicBezTo>
                  <a:pt x="13229" y="14341"/>
                  <a:pt x="13195" y="14360"/>
                  <a:pt x="13162" y="14363"/>
                </a:cubicBezTo>
                <a:cubicBezTo>
                  <a:pt x="13133" y="14366"/>
                  <a:pt x="13090" y="14353"/>
                  <a:pt x="13070" y="14331"/>
                </a:cubicBezTo>
                <a:cubicBezTo>
                  <a:pt x="13047" y="14306"/>
                  <a:pt x="13049" y="14271"/>
                  <a:pt x="13063" y="14242"/>
                </a:cubicBezTo>
                <a:cubicBezTo>
                  <a:pt x="13078" y="14211"/>
                  <a:pt x="13110" y="14187"/>
                  <a:pt x="13144" y="14183"/>
                </a:cubicBezTo>
                <a:cubicBezTo>
                  <a:pt x="13151" y="14183"/>
                  <a:pt x="13159" y="14184"/>
                  <a:pt x="13166" y="14184"/>
                </a:cubicBezTo>
                <a:cubicBezTo>
                  <a:pt x="13197" y="14200"/>
                  <a:pt x="13218" y="14214"/>
                  <a:pt x="13223" y="14252"/>
                </a:cubicBezTo>
                <a:cubicBezTo>
                  <a:pt x="13228" y="14287"/>
                  <a:pt x="13217" y="14319"/>
                  <a:pt x="13197" y="14347"/>
                </a:cubicBezTo>
                <a:cubicBezTo>
                  <a:pt x="13183" y="14366"/>
                  <a:pt x="13160" y="14382"/>
                  <a:pt x="13136" y="14381"/>
                </a:cubicBezTo>
                <a:cubicBezTo>
                  <a:pt x="13114" y="14380"/>
                  <a:pt x="13110" y="14356"/>
                  <a:pt x="13112" y="14339"/>
                </a:cubicBezTo>
                <a:cubicBezTo>
                  <a:pt x="13116" y="14319"/>
                  <a:pt x="13118" y="14311"/>
                  <a:pt x="13126" y="142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Ink 7"/>
          <p:cNvSpPr/>
          <p:nvPr/>
        </p:nvSpPr>
        <p:spPr>
          <a:xfrm>
            <a:off x="4894200" y="4835520"/>
            <a:ext cx="965160" cy="353880"/>
          </a:xfrm>
          <a:custGeom>
            <a:avLst/>
            <a:gdLst/>
            <a:ahLst/>
            <a:rect l="l" t="t" r="r" b="b"/>
            <a:pathLst>
              <a:path w="2683" h="984">
                <a:moveTo>
                  <a:pt x="13636" y="13982"/>
                </a:moveTo>
                <a:cubicBezTo>
                  <a:pt x="13632" y="14018"/>
                  <a:pt x="13631" y="14047"/>
                  <a:pt x="13634" y="14086"/>
                </a:cubicBezTo>
                <a:cubicBezTo>
                  <a:pt x="13639" y="14139"/>
                  <a:pt x="13645" y="14193"/>
                  <a:pt x="13648" y="14246"/>
                </a:cubicBezTo>
                <a:cubicBezTo>
                  <a:pt x="13650" y="14282"/>
                  <a:pt x="13653" y="14318"/>
                  <a:pt x="13653" y="14354"/>
                </a:cubicBezTo>
                <a:cubicBezTo>
                  <a:pt x="13653" y="14359"/>
                  <a:pt x="13652" y="14363"/>
                  <a:pt x="13652" y="14368"/>
                </a:cubicBezTo>
                <a:cubicBezTo>
                  <a:pt x="13641" y="14334"/>
                  <a:pt x="13634" y="14303"/>
                  <a:pt x="13627" y="14267"/>
                </a:cubicBezTo>
                <a:cubicBezTo>
                  <a:pt x="13583" y="14038"/>
                  <a:pt x="13539" y="13625"/>
                  <a:pt x="13733" y="13447"/>
                </a:cubicBezTo>
                <a:cubicBezTo>
                  <a:pt x="13742" y="13442"/>
                  <a:pt x="13752" y="13437"/>
                  <a:pt x="13761" y="13432"/>
                </a:cubicBezTo>
                <a:cubicBezTo>
                  <a:pt x="13824" y="13461"/>
                  <a:pt x="13834" y="13524"/>
                  <a:pt x="13846" y="13594"/>
                </a:cubicBezTo>
                <a:cubicBezTo>
                  <a:pt x="13875" y="13761"/>
                  <a:pt x="13876" y="13935"/>
                  <a:pt x="13866" y="14104"/>
                </a:cubicBezTo>
                <a:cubicBezTo>
                  <a:pt x="13874" y="14047"/>
                  <a:pt x="13881" y="13991"/>
                  <a:pt x="13891" y="13935"/>
                </a:cubicBezTo>
                <a:cubicBezTo>
                  <a:pt x="13908" y="13840"/>
                  <a:pt x="13934" y="13747"/>
                  <a:pt x="13973" y="13659"/>
                </a:cubicBezTo>
                <a:cubicBezTo>
                  <a:pt x="13999" y="13601"/>
                  <a:pt x="14035" y="13524"/>
                  <a:pt x="14096" y="13495"/>
                </a:cubicBezTo>
                <a:cubicBezTo>
                  <a:pt x="14105" y="13493"/>
                  <a:pt x="14115" y="13492"/>
                  <a:pt x="14124" y="13490"/>
                </a:cubicBezTo>
                <a:cubicBezTo>
                  <a:pt x="14174" y="13521"/>
                  <a:pt x="14191" y="13556"/>
                  <a:pt x="14208" y="13614"/>
                </a:cubicBezTo>
                <a:cubicBezTo>
                  <a:pt x="14233" y="13700"/>
                  <a:pt x="14238" y="13792"/>
                  <a:pt x="14242" y="13881"/>
                </a:cubicBezTo>
                <a:cubicBezTo>
                  <a:pt x="14248" y="14036"/>
                  <a:pt x="14230" y="14186"/>
                  <a:pt x="14209" y="14339"/>
                </a:cubicBezTo>
                <a:cubicBezTo>
                  <a:pt x="14201" y="14395"/>
                  <a:pt x="14188" y="14407"/>
                  <a:pt x="14224" y="14399"/>
                </a:cubicBezTo>
              </a:path>
              <a:path w="2683" h="984">
                <a:moveTo>
                  <a:pt x="14659" y="14067"/>
                </a:moveTo>
                <a:cubicBezTo>
                  <a:pt x="14650" y="14040"/>
                  <a:pt x="14638" y="14020"/>
                  <a:pt x="14615" y="14001"/>
                </a:cubicBezTo>
                <a:cubicBezTo>
                  <a:pt x="14595" y="13984"/>
                  <a:pt x="14574" y="13969"/>
                  <a:pt x="14548" y="13962"/>
                </a:cubicBezTo>
                <a:cubicBezTo>
                  <a:pt x="14524" y="13956"/>
                  <a:pt x="14495" y="13958"/>
                  <a:pt x="14473" y="13971"/>
                </a:cubicBezTo>
                <a:cubicBezTo>
                  <a:pt x="14442" y="13990"/>
                  <a:pt x="14423" y="14027"/>
                  <a:pt x="14412" y="14060"/>
                </a:cubicBezTo>
                <a:cubicBezTo>
                  <a:pt x="14396" y="14108"/>
                  <a:pt x="14394" y="14156"/>
                  <a:pt x="14403" y="14206"/>
                </a:cubicBezTo>
                <a:cubicBezTo>
                  <a:pt x="14410" y="14246"/>
                  <a:pt x="14421" y="14292"/>
                  <a:pt x="14451" y="14322"/>
                </a:cubicBezTo>
                <a:cubicBezTo>
                  <a:pt x="14480" y="14351"/>
                  <a:pt x="14516" y="14328"/>
                  <a:pt x="14534" y="14300"/>
                </a:cubicBezTo>
                <a:cubicBezTo>
                  <a:pt x="14565" y="14252"/>
                  <a:pt x="14577" y="14189"/>
                  <a:pt x="14586" y="14134"/>
                </a:cubicBezTo>
                <a:cubicBezTo>
                  <a:pt x="14592" y="14099"/>
                  <a:pt x="14596" y="14064"/>
                  <a:pt x="14600" y="14029"/>
                </a:cubicBezTo>
                <a:cubicBezTo>
                  <a:pt x="14617" y="14070"/>
                  <a:pt x="14619" y="14113"/>
                  <a:pt x="14626" y="14157"/>
                </a:cubicBezTo>
                <a:cubicBezTo>
                  <a:pt x="14635" y="14221"/>
                  <a:pt x="14641" y="14295"/>
                  <a:pt x="14674" y="14353"/>
                </a:cubicBezTo>
                <a:cubicBezTo>
                  <a:pt x="14692" y="14384"/>
                  <a:pt x="14726" y="14354"/>
                  <a:pt x="14743" y="14341"/>
                </a:cubicBezTo>
                <a:cubicBezTo>
                  <a:pt x="14752" y="14334"/>
                  <a:pt x="14761" y="14326"/>
                  <a:pt x="14770" y="14319"/>
                </a:cubicBezTo>
              </a:path>
              <a:path w="2683" h="984">
                <a:moveTo>
                  <a:pt x="15063" y="13928"/>
                </a:moveTo>
                <a:cubicBezTo>
                  <a:pt x="15057" y="13904"/>
                  <a:pt x="15072" y="13879"/>
                  <a:pt x="15031" y="13872"/>
                </a:cubicBezTo>
                <a:cubicBezTo>
                  <a:pt x="15004" y="13867"/>
                  <a:pt x="14972" y="13886"/>
                  <a:pt x="14953" y="13904"/>
                </a:cubicBezTo>
                <a:cubicBezTo>
                  <a:pt x="14878" y="13976"/>
                  <a:pt x="14843" y="14100"/>
                  <a:pt x="14831" y="14200"/>
                </a:cubicBezTo>
                <a:cubicBezTo>
                  <a:pt x="14826" y="14245"/>
                  <a:pt x="14821" y="14309"/>
                  <a:pt x="14848" y="14349"/>
                </a:cubicBezTo>
                <a:cubicBezTo>
                  <a:pt x="14853" y="14354"/>
                  <a:pt x="14859" y="14358"/>
                  <a:pt x="14864" y="14363"/>
                </a:cubicBezTo>
                <a:cubicBezTo>
                  <a:pt x="14905" y="14355"/>
                  <a:pt x="14921" y="14354"/>
                  <a:pt x="14952" y="14315"/>
                </a:cubicBezTo>
                <a:cubicBezTo>
                  <a:pt x="15042" y="14203"/>
                  <a:pt x="15084" y="14045"/>
                  <a:pt x="15100" y="13905"/>
                </a:cubicBezTo>
                <a:cubicBezTo>
                  <a:pt x="15109" y="13828"/>
                  <a:pt x="15106" y="13750"/>
                  <a:pt x="15102" y="13673"/>
                </a:cubicBezTo>
                <a:cubicBezTo>
                  <a:pt x="15100" y="13639"/>
                  <a:pt x="15095" y="13606"/>
                  <a:pt x="15093" y="13573"/>
                </a:cubicBezTo>
                <a:cubicBezTo>
                  <a:pt x="15093" y="13570"/>
                  <a:pt x="15093" y="13566"/>
                  <a:pt x="15093" y="13563"/>
                </a:cubicBezTo>
                <a:cubicBezTo>
                  <a:pt x="15098" y="13606"/>
                  <a:pt x="15100" y="13650"/>
                  <a:pt x="15103" y="13693"/>
                </a:cubicBezTo>
                <a:cubicBezTo>
                  <a:pt x="15108" y="13769"/>
                  <a:pt x="15117" y="13845"/>
                  <a:pt x="15127" y="13920"/>
                </a:cubicBezTo>
                <a:cubicBezTo>
                  <a:pt x="15137" y="13991"/>
                  <a:pt x="15150" y="14064"/>
                  <a:pt x="15168" y="14134"/>
                </a:cubicBezTo>
                <a:cubicBezTo>
                  <a:pt x="15181" y="14183"/>
                  <a:pt x="15196" y="14229"/>
                  <a:pt x="15221" y="14273"/>
                </a:cubicBezTo>
                <a:cubicBezTo>
                  <a:pt x="15233" y="14294"/>
                  <a:pt x="15260" y="14320"/>
                  <a:pt x="15288" y="14314"/>
                </a:cubicBezTo>
                <a:cubicBezTo>
                  <a:pt x="15316" y="14308"/>
                  <a:pt x="15338" y="14281"/>
                  <a:pt x="15356" y="14262"/>
                </a:cubicBezTo>
              </a:path>
              <a:path w="2683" h="984">
                <a:moveTo>
                  <a:pt x="15370" y="14077"/>
                </a:moveTo>
                <a:cubicBezTo>
                  <a:pt x="15371" y="14100"/>
                  <a:pt x="15373" y="14120"/>
                  <a:pt x="15377" y="14143"/>
                </a:cubicBezTo>
                <a:cubicBezTo>
                  <a:pt x="15382" y="14176"/>
                  <a:pt x="15387" y="14209"/>
                  <a:pt x="15394" y="14242"/>
                </a:cubicBezTo>
                <a:cubicBezTo>
                  <a:pt x="15397" y="14259"/>
                  <a:pt x="15401" y="14274"/>
                  <a:pt x="15408" y="14289"/>
                </a:cubicBezTo>
                <a:cubicBezTo>
                  <a:pt x="15429" y="14270"/>
                  <a:pt x="15425" y="14246"/>
                  <a:pt x="15426" y="14215"/>
                </a:cubicBezTo>
                <a:cubicBezTo>
                  <a:pt x="15427" y="14166"/>
                  <a:pt x="15414" y="14118"/>
                  <a:pt x="15408" y="14070"/>
                </a:cubicBezTo>
                <a:cubicBezTo>
                  <a:pt x="15403" y="14029"/>
                  <a:pt x="15396" y="13987"/>
                  <a:pt x="15407" y="13946"/>
                </a:cubicBezTo>
                <a:cubicBezTo>
                  <a:pt x="15417" y="13909"/>
                  <a:pt x="15446" y="13904"/>
                  <a:pt x="15477" y="13893"/>
                </a:cubicBezTo>
                <a:cubicBezTo>
                  <a:pt x="15518" y="13879"/>
                  <a:pt x="15559" y="13863"/>
                  <a:pt x="15599" y="13847"/>
                </a:cubicBezTo>
              </a:path>
              <a:path w="2683" h="984">
                <a:moveTo>
                  <a:pt x="15893" y="13966"/>
                </a:moveTo>
                <a:cubicBezTo>
                  <a:pt x="15891" y="13948"/>
                  <a:pt x="15887" y="13934"/>
                  <a:pt x="15870" y="13923"/>
                </a:cubicBezTo>
                <a:cubicBezTo>
                  <a:pt x="15847" y="13908"/>
                  <a:pt x="15825" y="13911"/>
                  <a:pt x="15803" y="13926"/>
                </a:cubicBezTo>
                <a:cubicBezTo>
                  <a:pt x="15766" y="13950"/>
                  <a:pt x="15746" y="13996"/>
                  <a:pt x="15732" y="14036"/>
                </a:cubicBezTo>
                <a:cubicBezTo>
                  <a:pt x="15710" y="14097"/>
                  <a:pt x="15685" y="14189"/>
                  <a:pt x="15719" y="14250"/>
                </a:cubicBezTo>
                <a:cubicBezTo>
                  <a:pt x="15729" y="14261"/>
                  <a:pt x="15732" y="14265"/>
                  <a:pt x="15743" y="14258"/>
                </a:cubicBezTo>
                <a:cubicBezTo>
                  <a:pt x="15774" y="14233"/>
                  <a:pt x="15794" y="14203"/>
                  <a:pt x="15810" y="14165"/>
                </a:cubicBezTo>
                <a:cubicBezTo>
                  <a:pt x="15828" y="14123"/>
                  <a:pt x="15842" y="14079"/>
                  <a:pt x="15858" y="14036"/>
                </a:cubicBezTo>
                <a:cubicBezTo>
                  <a:pt x="15865" y="14018"/>
                  <a:pt x="15866" y="14014"/>
                  <a:pt x="15873" y="14004"/>
                </a:cubicBezTo>
                <a:cubicBezTo>
                  <a:pt x="15894" y="14022"/>
                  <a:pt x="15893" y="14048"/>
                  <a:pt x="15898" y="14076"/>
                </a:cubicBezTo>
                <a:cubicBezTo>
                  <a:pt x="15907" y="14126"/>
                  <a:pt x="15915" y="14181"/>
                  <a:pt x="15937" y="14228"/>
                </a:cubicBezTo>
                <a:cubicBezTo>
                  <a:pt x="15948" y="14252"/>
                  <a:pt x="15963" y="14262"/>
                  <a:pt x="15985" y="14253"/>
                </a:cubicBezTo>
                <a:cubicBezTo>
                  <a:pt x="16016" y="14240"/>
                  <a:pt x="16041" y="14213"/>
                  <a:pt x="16066" y="14191"/>
                </a:cubicBezTo>
              </a:path>
              <a:path w="2683" h="984">
                <a:moveTo>
                  <a:pt x="16276" y="13870"/>
                </a:moveTo>
                <a:cubicBezTo>
                  <a:pt x="16272" y="13840"/>
                  <a:pt x="16263" y="13828"/>
                  <a:pt x="16229" y="13837"/>
                </a:cubicBezTo>
                <a:cubicBezTo>
                  <a:pt x="16205" y="13843"/>
                  <a:pt x="16182" y="13861"/>
                  <a:pt x="16165" y="13877"/>
                </a:cubicBezTo>
                <a:cubicBezTo>
                  <a:pt x="16141" y="13899"/>
                  <a:pt x="16121" y="13926"/>
                  <a:pt x="16105" y="13954"/>
                </a:cubicBezTo>
                <a:cubicBezTo>
                  <a:pt x="16094" y="13973"/>
                  <a:pt x="16084" y="13996"/>
                  <a:pt x="16094" y="14017"/>
                </a:cubicBezTo>
                <a:cubicBezTo>
                  <a:pt x="16104" y="14039"/>
                  <a:pt x="16128" y="14051"/>
                  <a:pt x="16147" y="14064"/>
                </a:cubicBezTo>
                <a:cubicBezTo>
                  <a:pt x="16173" y="14081"/>
                  <a:pt x="16205" y="14099"/>
                  <a:pt x="16225" y="14123"/>
                </a:cubicBezTo>
                <a:cubicBezTo>
                  <a:pt x="16245" y="14146"/>
                  <a:pt x="16257" y="14172"/>
                  <a:pt x="16254" y="14203"/>
                </a:cubicBezTo>
                <a:cubicBezTo>
                  <a:pt x="16252" y="14230"/>
                  <a:pt x="16231" y="14259"/>
                  <a:pt x="16207" y="14272"/>
                </a:cubicBezTo>
                <a:cubicBezTo>
                  <a:pt x="16180" y="14287"/>
                  <a:pt x="16154" y="14286"/>
                  <a:pt x="16126" y="14279"/>
                </a:cubicBezTo>
                <a:cubicBezTo>
                  <a:pt x="16104" y="14274"/>
                  <a:pt x="16103" y="14271"/>
                  <a:pt x="16090" y="14254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Ink 8"/>
          <p:cNvSpPr/>
          <p:nvPr/>
        </p:nvSpPr>
        <p:spPr>
          <a:xfrm>
            <a:off x="5646600" y="3135240"/>
            <a:ext cx="1251000" cy="434880"/>
          </a:xfrm>
          <a:custGeom>
            <a:avLst/>
            <a:gdLst/>
            <a:ahLst/>
            <a:rect l="l" t="t" r="r" b="b"/>
            <a:pathLst>
              <a:path w="3474" h="1209">
                <a:moveTo>
                  <a:pt x="17427" y="8827"/>
                </a:moveTo>
                <a:cubicBezTo>
                  <a:pt x="17414" y="8811"/>
                  <a:pt x="17408" y="8799"/>
                  <a:pt x="17405" y="8778"/>
                </a:cubicBezTo>
                <a:cubicBezTo>
                  <a:pt x="17401" y="8749"/>
                  <a:pt x="17409" y="8730"/>
                  <a:pt x="17435" y="8716"/>
                </a:cubicBezTo>
                <a:cubicBezTo>
                  <a:pt x="17449" y="8708"/>
                  <a:pt x="17472" y="8713"/>
                  <a:pt x="17486" y="8718"/>
                </a:cubicBezTo>
                <a:cubicBezTo>
                  <a:pt x="17505" y="8724"/>
                  <a:pt x="17520" y="8736"/>
                  <a:pt x="17532" y="8751"/>
                </a:cubicBezTo>
                <a:cubicBezTo>
                  <a:pt x="17538" y="8759"/>
                  <a:pt x="17540" y="8762"/>
                  <a:pt x="17539" y="8770"/>
                </a:cubicBezTo>
                <a:cubicBezTo>
                  <a:pt x="17536" y="8796"/>
                  <a:pt x="17524" y="8803"/>
                  <a:pt x="17502" y="8815"/>
                </a:cubicBezTo>
                <a:cubicBezTo>
                  <a:pt x="17481" y="8827"/>
                  <a:pt x="17456" y="8834"/>
                  <a:pt x="17431" y="8830"/>
                </a:cubicBezTo>
                <a:cubicBezTo>
                  <a:pt x="17409" y="8827"/>
                  <a:pt x="17395" y="8815"/>
                  <a:pt x="17383" y="8799"/>
                </a:cubicBezTo>
                <a:cubicBezTo>
                  <a:pt x="17378" y="8774"/>
                  <a:pt x="17381" y="8760"/>
                  <a:pt x="17396" y="8739"/>
                </a:cubicBezTo>
                <a:cubicBezTo>
                  <a:pt x="17410" y="8720"/>
                  <a:pt x="17434" y="8705"/>
                  <a:pt x="17459" y="8708"/>
                </a:cubicBezTo>
                <a:cubicBezTo>
                  <a:pt x="17485" y="8711"/>
                  <a:pt x="17511" y="8737"/>
                  <a:pt x="17519" y="8761"/>
                </a:cubicBezTo>
                <a:cubicBezTo>
                  <a:pt x="17531" y="8795"/>
                  <a:pt x="17522" y="8833"/>
                  <a:pt x="17504" y="8863"/>
                </a:cubicBezTo>
                <a:cubicBezTo>
                  <a:pt x="17487" y="8892"/>
                  <a:pt x="17453" y="8916"/>
                  <a:pt x="17422" y="8928"/>
                </a:cubicBezTo>
                <a:cubicBezTo>
                  <a:pt x="17392" y="8939"/>
                  <a:pt x="17367" y="8934"/>
                  <a:pt x="17344" y="8912"/>
                </a:cubicBezTo>
                <a:cubicBezTo>
                  <a:pt x="17324" y="8893"/>
                  <a:pt x="17320" y="8861"/>
                  <a:pt x="17321" y="8835"/>
                </a:cubicBezTo>
                <a:cubicBezTo>
                  <a:pt x="17323" y="8805"/>
                  <a:pt x="17333" y="8790"/>
                  <a:pt x="17356" y="8774"/>
                </a:cubicBezTo>
                <a:cubicBezTo>
                  <a:pt x="17385" y="8770"/>
                  <a:pt x="17405" y="8772"/>
                  <a:pt x="17430" y="8790"/>
                </a:cubicBezTo>
                <a:cubicBezTo>
                  <a:pt x="17455" y="8807"/>
                  <a:pt x="17480" y="8833"/>
                  <a:pt x="17490" y="8862"/>
                </a:cubicBezTo>
                <a:cubicBezTo>
                  <a:pt x="17497" y="8882"/>
                  <a:pt x="17491" y="8893"/>
                  <a:pt x="17483" y="8911"/>
                </a:cubicBezTo>
                <a:cubicBezTo>
                  <a:pt x="17461" y="8932"/>
                  <a:pt x="17442" y="8941"/>
                  <a:pt x="17410" y="8940"/>
                </a:cubicBezTo>
                <a:cubicBezTo>
                  <a:pt x="17378" y="8939"/>
                  <a:pt x="17346" y="8928"/>
                  <a:pt x="17323" y="8905"/>
                </a:cubicBezTo>
                <a:cubicBezTo>
                  <a:pt x="17306" y="8888"/>
                  <a:pt x="17305" y="8874"/>
                  <a:pt x="17303" y="8852"/>
                </a:cubicBezTo>
                <a:cubicBezTo>
                  <a:pt x="17320" y="8823"/>
                  <a:pt x="17334" y="8814"/>
                  <a:pt x="17370" y="8810"/>
                </a:cubicBezTo>
                <a:cubicBezTo>
                  <a:pt x="17407" y="8806"/>
                  <a:pt x="17445" y="8812"/>
                  <a:pt x="17479" y="8827"/>
                </a:cubicBezTo>
                <a:cubicBezTo>
                  <a:pt x="17497" y="8835"/>
                  <a:pt x="17506" y="8842"/>
                  <a:pt x="17517" y="8857"/>
                </a:cubicBezTo>
                <a:cubicBezTo>
                  <a:pt x="17510" y="8881"/>
                  <a:pt x="17494" y="8888"/>
                  <a:pt x="17469" y="8895"/>
                </a:cubicBezTo>
                <a:cubicBezTo>
                  <a:pt x="17429" y="8906"/>
                  <a:pt x="17380" y="8906"/>
                  <a:pt x="17341" y="8891"/>
                </a:cubicBezTo>
                <a:cubicBezTo>
                  <a:pt x="17318" y="8882"/>
                  <a:pt x="17309" y="8873"/>
                  <a:pt x="17307" y="8850"/>
                </a:cubicBezTo>
                <a:cubicBezTo>
                  <a:pt x="17327" y="8833"/>
                  <a:pt x="17342" y="8827"/>
                  <a:pt x="17369" y="8824"/>
                </a:cubicBezTo>
                <a:cubicBezTo>
                  <a:pt x="17402" y="8821"/>
                  <a:pt x="17421" y="8828"/>
                  <a:pt x="17448" y="8844"/>
                </a:cubicBezTo>
                <a:cubicBezTo>
                  <a:pt x="17462" y="8868"/>
                  <a:pt x="17469" y="8878"/>
                  <a:pt x="17456" y="8904"/>
                </a:cubicBezTo>
                <a:cubicBezTo>
                  <a:pt x="17443" y="8930"/>
                  <a:pt x="17422" y="8944"/>
                  <a:pt x="17394" y="8951"/>
                </a:cubicBezTo>
                <a:cubicBezTo>
                  <a:pt x="17367" y="8958"/>
                  <a:pt x="17344" y="8947"/>
                  <a:pt x="17329" y="8923"/>
                </a:cubicBezTo>
                <a:cubicBezTo>
                  <a:pt x="17312" y="8895"/>
                  <a:pt x="17316" y="8861"/>
                  <a:pt x="17326" y="8831"/>
                </a:cubicBezTo>
                <a:cubicBezTo>
                  <a:pt x="17335" y="8804"/>
                  <a:pt x="17347" y="8799"/>
                  <a:pt x="17370" y="8785"/>
                </a:cubicBezTo>
                <a:cubicBezTo>
                  <a:pt x="17399" y="8785"/>
                  <a:pt x="17426" y="8787"/>
                  <a:pt x="17448" y="8810"/>
                </a:cubicBezTo>
                <a:cubicBezTo>
                  <a:pt x="17467" y="8830"/>
                  <a:pt x="17477" y="8862"/>
                  <a:pt x="17469" y="8889"/>
                </a:cubicBezTo>
                <a:cubicBezTo>
                  <a:pt x="17461" y="8915"/>
                  <a:pt x="17447" y="8932"/>
                  <a:pt x="17423" y="8940"/>
                </a:cubicBezTo>
                <a:cubicBezTo>
                  <a:pt x="17411" y="8943"/>
                  <a:pt x="17406" y="8944"/>
                  <a:pt x="17399" y="8936"/>
                </a:cubicBezTo>
              </a:path>
              <a:path w="3474" h="1209">
                <a:moveTo>
                  <a:pt x="16321" y="9232"/>
                </a:moveTo>
                <a:cubicBezTo>
                  <a:pt x="16335" y="9218"/>
                  <a:pt x="16344" y="9238"/>
                  <a:pt x="16343" y="9208"/>
                </a:cubicBezTo>
                <a:cubicBezTo>
                  <a:pt x="16343" y="9183"/>
                  <a:pt x="16331" y="9166"/>
                  <a:pt x="16318" y="9147"/>
                </a:cubicBezTo>
                <a:cubicBezTo>
                  <a:pt x="16290" y="9105"/>
                  <a:pt x="16244" y="9074"/>
                  <a:pt x="16196" y="9058"/>
                </a:cubicBezTo>
                <a:cubicBezTo>
                  <a:pt x="16156" y="9045"/>
                  <a:pt x="16117" y="9045"/>
                  <a:pt x="16076" y="9051"/>
                </a:cubicBezTo>
                <a:cubicBezTo>
                  <a:pt x="16025" y="9058"/>
                  <a:pt x="15980" y="9075"/>
                  <a:pt x="15936" y="9102"/>
                </a:cubicBezTo>
                <a:cubicBezTo>
                  <a:pt x="15854" y="9152"/>
                  <a:pt x="15794" y="9227"/>
                  <a:pt x="15748" y="9310"/>
                </a:cubicBezTo>
                <a:cubicBezTo>
                  <a:pt x="15721" y="9359"/>
                  <a:pt x="15706" y="9413"/>
                  <a:pt x="15696" y="9468"/>
                </a:cubicBezTo>
                <a:cubicBezTo>
                  <a:pt x="15679" y="9567"/>
                  <a:pt x="15680" y="9672"/>
                  <a:pt x="15710" y="9768"/>
                </a:cubicBezTo>
                <a:cubicBezTo>
                  <a:pt x="15732" y="9838"/>
                  <a:pt x="15777" y="9909"/>
                  <a:pt x="15858" y="9912"/>
                </a:cubicBezTo>
                <a:cubicBezTo>
                  <a:pt x="15901" y="9914"/>
                  <a:pt x="15939" y="9895"/>
                  <a:pt x="15972" y="9871"/>
                </a:cubicBezTo>
                <a:cubicBezTo>
                  <a:pt x="16004" y="9847"/>
                  <a:pt x="16032" y="9821"/>
                  <a:pt x="16059" y="9792"/>
                </a:cubicBezTo>
              </a:path>
              <a:path w="3474" h="1209">
                <a:moveTo>
                  <a:pt x="16009" y="9832"/>
                </a:moveTo>
                <a:cubicBezTo>
                  <a:pt x="16005" y="9834"/>
                  <a:pt x="16001" y="9836"/>
                  <a:pt x="15997" y="9838"/>
                </a:cubicBezTo>
                <a:cubicBezTo>
                  <a:pt x="16019" y="9820"/>
                  <a:pt x="16043" y="9810"/>
                  <a:pt x="16067" y="9795"/>
                </a:cubicBezTo>
                <a:cubicBezTo>
                  <a:pt x="16081" y="9786"/>
                  <a:pt x="16094" y="9777"/>
                  <a:pt x="16108" y="9768"/>
                </a:cubicBezTo>
                <a:cubicBezTo>
                  <a:pt x="16126" y="9756"/>
                  <a:pt x="16147" y="9748"/>
                  <a:pt x="16161" y="9732"/>
                </a:cubicBezTo>
                <a:cubicBezTo>
                  <a:pt x="16170" y="9722"/>
                  <a:pt x="16174" y="9712"/>
                  <a:pt x="16180" y="9700"/>
                </a:cubicBezTo>
              </a:path>
              <a:path w="3474" h="1209">
                <a:moveTo>
                  <a:pt x="16557" y="9650"/>
                </a:moveTo>
                <a:cubicBezTo>
                  <a:pt x="16559" y="9633"/>
                  <a:pt x="16564" y="9617"/>
                  <a:pt x="16546" y="9605"/>
                </a:cubicBezTo>
                <a:cubicBezTo>
                  <a:pt x="16524" y="9590"/>
                  <a:pt x="16488" y="9594"/>
                  <a:pt x="16465" y="9604"/>
                </a:cubicBezTo>
                <a:cubicBezTo>
                  <a:pt x="16450" y="9611"/>
                  <a:pt x="16437" y="9620"/>
                  <a:pt x="16425" y="9630"/>
                </a:cubicBezTo>
                <a:cubicBezTo>
                  <a:pt x="16411" y="9642"/>
                  <a:pt x="16400" y="9656"/>
                  <a:pt x="16391" y="9672"/>
                </a:cubicBezTo>
                <a:cubicBezTo>
                  <a:pt x="16381" y="9689"/>
                  <a:pt x="16376" y="9714"/>
                  <a:pt x="16372" y="9734"/>
                </a:cubicBezTo>
                <a:cubicBezTo>
                  <a:pt x="16367" y="9759"/>
                  <a:pt x="16367" y="9785"/>
                  <a:pt x="16368" y="9810"/>
                </a:cubicBezTo>
                <a:cubicBezTo>
                  <a:pt x="16369" y="9830"/>
                  <a:pt x="16370" y="9857"/>
                  <a:pt x="16380" y="9876"/>
                </a:cubicBezTo>
                <a:cubicBezTo>
                  <a:pt x="16389" y="9892"/>
                  <a:pt x="16408" y="9907"/>
                  <a:pt x="16424" y="9913"/>
                </a:cubicBezTo>
                <a:cubicBezTo>
                  <a:pt x="16436" y="9918"/>
                  <a:pt x="16456" y="9917"/>
                  <a:pt x="16468" y="9912"/>
                </a:cubicBezTo>
                <a:cubicBezTo>
                  <a:pt x="16512" y="9893"/>
                  <a:pt x="16542" y="9833"/>
                  <a:pt x="16556" y="9791"/>
                </a:cubicBezTo>
                <a:cubicBezTo>
                  <a:pt x="16562" y="9774"/>
                  <a:pt x="16568" y="9756"/>
                  <a:pt x="16574" y="9739"/>
                </a:cubicBezTo>
                <a:cubicBezTo>
                  <a:pt x="16580" y="9723"/>
                  <a:pt x="16583" y="9706"/>
                  <a:pt x="16588" y="9689"/>
                </a:cubicBezTo>
                <a:cubicBezTo>
                  <a:pt x="16592" y="9673"/>
                  <a:pt x="16597" y="9657"/>
                  <a:pt x="16600" y="9641"/>
                </a:cubicBezTo>
                <a:cubicBezTo>
                  <a:pt x="16602" y="9631"/>
                  <a:pt x="16603" y="9620"/>
                  <a:pt x="16605" y="9609"/>
                </a:cubicBezTo>
                <a:cubicBezTo>
                  <a:pt x="16615" y="9635"/>
                  <a:pt x="16619" y="9662"/>
                  <a:pt x="16622" y="9690"/>
                </a:cubicBezTo>
                <a:cubicBezTo>
                  <a:pt x="16627" y="9732"/>
                  <a:pt x="16630" y="9775"/>
                  <a:pt x="16641" y="9816"/>
                </a:cubicBezTo>
                <a:cubicBezTo>
                  <a:pt x="16648" y="9842"/>
                  <a:pt x="16655" y="9877"/>
                  <a:pt x="16677" y="9895"/>
                </a:cubicBezTo>
                <a:cubicBezTo>
                  <a:pt x="16694" y="9909"/>
                  <a:pt x="16724" y="9896"/>
                  <a:pt x="16741" y="9888"/>
                </a:cubicBezTo>
                <a:cubicBezTo>
                  <a:pt x="16766" y="9876"/>
                  <a:pt x="16786" y="9857"/>
                  <a:pt x="16807" y="9840"/>
                </a:cubicBezTo>
              </a:path>
              <a:path w="3474" h="1209">
                <a:moveTo>
                  <a:pt x="16963" y="9287"/>
                </a:moveTo>
                <a:cubicBezTo>
                  <a:pt x="16965" y="9278"/>
                  <a:pt x="16966" y="9274"/>
                  <a:pt x="16962" y="9268"/>
                </a:cubicBezTo>
                <a:cubicBezTo>
                  <a:pt x="16950" y="9292"/>
                  <a:pt x="16952" y="9315"/>
                  <a:pt x="16954" y="9342"/>
                </a:cubicBezTo>
                <a:cubicBezTo>
                  <a:pt x="16958" y="9400"/>
                  <a:pt x="16962" y="9459"/>
                  <a:pt x="16970" y="9516"/>
                </a:cubicBezTo>
                <a:cubicBezTo>
                  <a:pt x="16979" y="9581"/>
                  <a:pt x="16989" y="9645"/>
                  <a:pt x="16995" y="9711"/>
                </a:cubicBezTo>
                <a:cubicBezTo>
                  <a:pt x="16999" y="9754"/>
                  <a:pt x="17003" y="9797"/>
                  <a:pt x="17002" y="9840"/>
                </a:cubicBezTo>
                <a:cubicBezTo>
                  <a:pt x="17002" y="9859"/>
                  <a:pt x="16989" y="9893"/>
                  <a:pt x="17010" y="9870"/>
                </a:cubicBezTo>
                <a:cubicBezTo>
                  <a:pt x="17013" y="9866"/>
                  <a:pt x="17016" y="9861"/>
                  <a:pt x="17019" y="9857"/>
                </a:cubicBezTo>
              </a:path>
              <a:path w="3474" h="1209">
                <a:moveTo>
                  <a:pt x="17408" y="9602"/>
                </a:moveTo>
                <a:cubicBezTo>
                  <a:pt x="17406" y="9576"/>
                  <a:pt x="17400" y="9559"/>
                  <a:pt x="17372" y="9549"/>
                </a:cubicBezTo>
                <a:cubicBezTo>
                  <a:pt x="17353" y="9543"/>
                  <a:pt x="17328" y="9557"/>
                  <a:pt x="17314" y="9568"/>
                </a:cubicBezTo>
                <a:cubicBezTo>
                  <a:pt x="17287" y="9590"/>
                  <a:pt x="17272" y="9619"/>
                  <a:pt x="17259" y="9651"/>
                </a:cubicBezTo>
                <a:cubicBezTo>
                  <a:pt x="17243" y="9689"/>
                  <a:pt x="17237" y="9728"/>
                  <a:pt x="17238" y="9769"/>
                </a:cubicBezTo>
                <a:cubicBezTo>
                  <a:pt x="17239" y="9803"/>
                  <a:pt x="17244" y="9841"/>
                  <a:pt x="17266" y="9869"/>
                </a:cubicBezTo>
                <a:cubicBezTo>
                  <a:pt x="17285" y="9893"/>
                  <a:pt x="17317" y="9905"/>
                  <a:pt x="17347" y="9903"/>
                </a:cubicBezTo>
                <a:cubicBezTo>
                  <a:pt x="17390" y="9900"/>
                  <a:pt x="17419" y="9879"/>
                  <a:pt x="17454" y="9858"/>
                </a:cubicBezTo>
                <a:cubicBezTo>
                  <a:pt x="17490" y="9836"/>
                  <a:pt x="17523" y="9812"/>
                  <a:pt x="17557" y="9786"/>
                </a:cubicBezTo>
              </a:path>
              <a:path w="3474" h="1209">
                <a:moveTo>
                  <a:pt x="17682" y="9568"/>
                </a:moveTo>
                <a:cubicBezTo>
                  <a:pt x="17687" y="9551"/>
                  <a:pt x="17688" y="9546"/>
                  <a:pt x="17690" y="9535"/>
                </a:cubicBezTo>
                <a:cubicBezTo>
                  <a:pt x="17697" y="9567"/>
                  <a:pt x="17702" y="9598"/>
                  <a:pt x="17704" y="9631"/>
                </a:cubicBezTo>
                <a:cubicBezTo>
                  <a:pt x="17707" y="9676"/>
                  <a:pt x="17709" y="9722"/>
                  <a:pt x="17717" y="9767"/>
                </a:cubicBezTo>
                <a:cubicBezTo>
                  <a:pt x="17722" y="9795"/>
                  <a:pt x="17726" y="9841"/>
                  <a:pt x="17754" y="9857"/>
                </a:cubicBezTo>
                <a:cubicBezTo>
                  <a:pt x="17773" y="9868"/>
                  <a:pt x="17795" y="9856"/>
                  <a:pt x="17810" y="9844"/>
                </a:cubicBezTo>
                <a:cubicBezTo>
                  <a:pt x="17823" y="9834"/>
                  <a:pt x="17840" y="9816"/>
                  <a:pt x="17848" y="9802"/>
                </a:cubicBezTo>
                <a:cubicBezTo>
                  <a:pt x="17850" y="9796"/>
                  <a:pt x="17852" y="9791"/>
                  <a:pt x="17854" y="9785"/>
                </a:cubicBezTo>
              </a:path>
              <a:path w="3474" h="1209">
                <a:moveTo>
                  <a:pt x="17905" y="9583"/>
                </a:moveTo>
                <a:cubicBezTo>
                  <a:pt x="17905" y="9578"/>
                  <a:pt x="17905" y="9573"/>
                  <a:pt x="17905" y="9568"/>
                </a:cubicBezTo>
                <a:cubicBezTo>
                  <a:pt x="17906" y="9594"/>
                  <a:pt x="17906" y="9619"/>
                  <a:pt x="17908" y="9645"/>
                </a:cubicBezTo>
                <a:cubicBezTo>
                  <a:pt x="17912" y="9687"/>
                  <a:pt x="17917" y="9726"/>
                  <a:pt x="17927" y="9767"/>
                </a:cubicBezTo>
                <a:cubicBezTo>
                  <a:pt x="17931" y="9782"/>
                  <a:pt x="17941" y="9829"/>
                  <a:pt x="17962" y="9834"/>
                </a:cubicBezTo>
                <a:cubicBezTo>
                  <a:pt x="17990" y="9841"/>
                  <a:pt x="18003" y="9823"/>
                  <a:pt x="18019" y="9805"/>
                </a:cubicBezTo>
              </a:path>
              <a:path w="3474" h="1209">
                <a:moveTo>
                  <a:pt x="18099" y="9211"/>
                </a:moveTo>
                <a:cubicBezTo>
                  <a:pt x="18096" y="9239"/>
                  <a:pt x="18089" y="9273"/>
                  <a:pt x="18085" y="9303"/>
                </a:cubicBezTo>
                <a:cubicBezTo>
                  <a:pt x="18077" y="9365"/>
                  <a:pt x="18075" y="9428"/>
                  <a:pt x="18076" y="9490"/>
                </a:cubicBezTo>
                <a:cubicBezTo>
                  <a:pt x="18077" y="9553"/>
                  <a:pt x="18077" y="9618"/>
                  <a:pt x="18085" y="9681"/>
                </a:cubicBezTo>
                <a:cubicBezTo>
                  <a:pt x="18092" y="9733"/>
                  <a:pt x="18098" y="9805"/>
                  <a:pt x="18142" y="9840"/>
                </a:cubicBezTo>
                <a:cubicBezTo>
                  <a:pt x="18161" y="9855"/>
                  <a:pt x="18194" y="9855"/>
                  <a:pt x="18216" y="9848"/>
                </a:cubicBezTo>
                <a:cubicBezTo>
                  <a:pt x="18247" y="9837"/>
                  <a:pt x="18272" y="9821"/>
                  <a:pt x="18296" y="9798"/>
                </a:cubicBezTo>
                <a:cubicBezTo>
                  <a:pt x="18313" y="9781"/>
                  <a:pt x="18319" y="9775"/>
                  <a:pt x="18326" y="9759"/>
                </a:cubicBezTo>
              </a:path>
              <a:path w="3474" h="1209">
                <a:moveTo>
                  <a:pt x="18031" y="9568"/>
                </a:moveTo>
                <a:cubicBezTo>
                  <a:pt x="18005" y="9542"/>
                  <a:pt x="18024" y="9537"/>
                  <a:pt x="18048" y="9516"/>
                </a:cubicBezTo>
                <a:cubicBezTo>
                  <a:pt x="18078" y="9490"/>
                  <a:pt x="18113" y="9470"/>
                  <a:pt x="18151" y="9456"/>
                </a:cubicBezTo>
                <a:cubicBezTo>
                  <a:pt x="18190" y="9441"/>
                  <a:pt x="18229" y="9435"/>
                  <a:pt x="18268" y="9423"/>
                </a:cubicBezTo>
                <a:cubicBezTo>
                  <a:pt x="18292" y="9414"/>
                  <a:pt x="18300" y="9412"/>
                  <a:pt x="18315" y="9405"/>
                </a:cubicBezTo>
              </a:path>
              <a:path w="3474" h="1209">
                <a:moveTo>
                  <a:pt x="18394" y="9141"/>
                </a:moveTo>
                <a:cubicBezTo>
                  <a:pt x="18396" y="9169"/>
                  <a:pt x="18394" y="9198"/>
                  <a:pt x="18394" y="9228"/>
                </a:cubicBezTo>
                <a:cubicBezTo>
                  <a:pt x="18393" y="9296"/>
                  <a:pt x="18389" y="9365"/>
                  <a:pt x="18388" y="9433"/>
                </a:cubicBezTo>
                <a:cubicBezTo>
                  <a:pt x="18387" y="9504"/>
                  <a:pt x="18382" y="9574"/>
                  <a:pt x="18385" y="9645"/>
                </a:cubicBezTo>
                <a:cubicBezTo>
                  <a:pt x="18387" y="9690"/>
                  <a:pt x="18390" y="9759"/>
                  <a:pt x="18423" y="9794"/>
                </a:cubicBezTo>
                <a:cubicBezTo>
                  <a:pt x="18441" y="9813"/>
                  <a:pt x="18462" y="9812"/>
                  <a:pt x="18484" y="9807"/>
                </a:cubicBezTo>
                <a:cubicBezTo>
                  <a:pt x="18511" y="9801"/>
                  <a:pt x="18533" y="9778"/>
                  <a:pt x="18552" y="9758"/>
                </a:cubicBezTo>
                <a:cubicBezTo>
                  <a:pt x="18557" y="9752"/>
                  <a:pt x="18561" y="9746"/>
                  <a:pt x="18566" y="9740"/>
                </a:cubicBezTo>
              </a:path>
              <a:path w="3474" h="1209">
                <a:moveTo>
                  <a:pt x="18342" y="9514"/>
                </a:moveTo>
                <a:cubicBezTo>
                  <a:pt x="18326" y="9515"/>
                  <a:pt x="18321" y="9515"/>
                  <a:pt x="18311" y="9515"/>
                </a:cubicBezTo>
                <a:cubicBezTo>
                  <a:pt x="18329" y="9495"/>
                  <a:pt x="18348" y="9485"/>
                  <a:pt x="18372" y="9472"/>
                </a:cubicBezTo>
                <a:cubicBezTo>
                  <a:pt x="18425" y="9442"/>
                  <a:pt x="18483" y="9422"/>
                  <a:pt x="18537" y="9394"/>
                </a:cubicBezTo>
                <a:cubicBezTo>
                  <a:pt x="18549" y="9388"/>
                  <a:pt x="18560" y="9381"/>
                  <a:pt x="18572" y="9375"/>
                </a:cubicBezTo>
              </a:path>
              <a:path w="3474" h="1209">
                <a:moveTo>
                  <a:pt x="18893" y="9501"/>
                </a:moveTo>
                <a:cubicBezTo>
                  <a:pt x="18891" y="9482"/>
                  <a:pt x="18894" y="9458"/>
                  <a:pt x="18868" y="9450"/>
                </a:cubicBezTo>
                <a:cubicBezTo>
                  <a:pt x="18848" y="9444"/>
                  <a:pt x="18828" y="9461"/>
                  <a:pt x="18814" y="9473"/>
                </a:cubicBezTo>
                <a:cubicBezTo>
                  <a:pt x="18791" y="9493"/>
                  <a:pt x="18773" y="9523"/>
                  <a:pt x="18757" y="9549"/>
                </a:cubicBezTo>
                <a:cubicBezTo>
                  <a:pt x="18740" y="9578"/>
                  <a:pt x="18728" y="9613"/>
                  <a:pt x="18725" y="9647"/>
                </a:cubicBezTo>
                <a:cubicBezTo>
                  <a:pt x="18723" y="9675"/>
                  <a:pt x="18724" y="9697"/>
                  <a:pt x="18741" y="9720"/>
                </a:cubicBezTo>
                <a:cubicBezTo>
                  <a:pt x="18753" y="9736"/>
                  <a:pt x="18770" y="9744"/>
                  <a:pt x="18790" y="9742"/>
                </a:cubicBezTo>
                <a:cubicBezTo>
                  <a:pt x="18844" y="9737"/>
                  <a:pt x="18877" y="9676"/>
                  <a:pt x="18892" y="9631"/>
                </a:cubicBezTo>
                <a:cubicBezTo>
                  <a:pt x="18903" y="9600"/>
                  <a:pt x="18909" y="9568"/>
                  <a:pt x="18916" y="9536"/>
                </a:cubicBezTo>
                <a:cubicBezTo>
                  <a:pt x="18919" y="9519"/>
                  <a:pt x="18922" y="9503"/>
                  <a:pt x="18925" y="9486"/>
                </a:cubicBezTo>
                <a:cubicBezTo>
                  <a:pt x="18927" y="9510"/>
                  <a:pt x="18927" y="9534"/>
                  <a:pt x="18929" y="9558"/>
                </a:cubicBezTo>
                <a:cubicBezTo>
                  <a:pt x="18933" y="9606"/>
                  <a:pt x="18939" y="9654"/>
                  <a:pt x="18954" y="9700"/>
                </a:cubicBezTo>
                <a:cubicBezTo>
                  <a:pt x="18969" y="9747"/>
                  <a:pt x="19001" y="9798"/>
                  <a:pt x="19056" y="9798"/>
                </a:cubicBezTo>
                <a:cubicBezTo>
                  <a:pt x="19099" y="9798"/>
                  <a:pt x="19128" y="9769"/>
                  <a:pt x="19159" y="97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Ink 9"/>
          <p:cNvSpPr/>
          <p:nvPr/>
        </p:nvSpPr>
        <p:spPr>
          <a:xfrm>
            <a:off x="2216160" y="3578400"/>
            <a:ext cx="931680" cy="657000"/>
          </a:xfrm>
          <a:custGeom>
            <a:avLst/>
            <a:gdLst/>
            <a:ahLst/>
            <a:rect l="l" t="t" r="r" b="b"/>
            <a:pathLst>
              <a:path w="2588" h="1822">
                <a:moveTo>
                  <a:pt x="6286" y="10195"/>
                </a:moveTo>
                <a:cubicBezTo>
                  <a:pt x="6285" y="10180"/>
                  <a:pt x="6283" y="10170"/>
                  <a:pt x="6281" y="10155"/>
                </a:cubicBezTo>
                <a:cubicBezTo>
                  <a:pt x="6284" y="10202"/>
                  <a:pt x="6287" y="10250"/>
                  <a:pt x="6290" y="10297"/>
                </a:cubicBezTo>
                <a:cubicBezTo>
                  <a:pt x="6298" y="10435"/>
                  <a:pt x="6299" y="10574"/>
                  <a:pt x="6298" y="10713"/>
                </a:cubicBezTo>
                <a:cubicBezTo>
                  <a:pt x="6298" y="10766"/>
                  <a:pt x="6301" y="10821"/>
                  <a:pt x="6297" y="10874"/>
                </a:cubicBezTo>
                <a:cubicBezTo>
                  <a:pt x="6294" y="10916"/>
                  <a:pt x="6298" y="10891"/>
                  <a:pt x="6301" y="10864"/>
                </a:cubicBezTo>
                <a:cubicBezTo>
                  <a:pt x="6302" y="10855"/>
                  <a:pt x="6304" y="10845"/>
                  <a:pt x="6305" y="10836"/>
                </a:cubicBezTo>
              </a:path>
              <a:path w="2588" h="1822">
                <a:moveTo>
                  <a:pt x="6195" y="10337"/>
                </a:moveTo>
                <a:cubicBezTo>
                  <a:pt x="6171" y="10293"/>
                  <a:pt x="6153" y="10257"/>
                  <a:pt x="6155" y="10205"/>
                </a:cubicBezTo>
                <a:cubicBezTo>
                  <a:pt x="6157" y="10154"/>
                  <a:pt x="6179" y="10106"/>
                  <a:pt x="6213" y="10068"/>
                </a:cubicBezTo>
                <a:cubicBezTo>
                  <a:pt x="6259" y="10016"/>
                  <a:pt x="6326" y="9981"/>
                  <a:pt x="6390" y="9958"/>
                </a:cubicBezTo>
                <a:cubicBezTo>
                  <a:pt x="6437" y="9941"/>
                  <a:pt x="6507" y="9924"/>
                  <a:pt x="6548" y="9965"/>
                </a:cubicBezTo>
                <a:cubicBezTo>
                  <a:pt x="6590" y="10007"/>
                  <a:pt x="6555" y="10080"/>
                  <a:pt x="6535" y="10122"/>
                </a:cubicBezTo>
                <a:cubicBezTo>
                  <a:pt x="6492" y="10212"/>
                  <a:pt x="6423" y="10286"/>
                  <a:pt x="6356" y="10359"/>
                </a:cubicBezTo>
                <a:cubicBezTo>
                  <a:pt x="6330" y="10388"/>
                  <a:pt x="6314" y="10407"/>
                  <a:pt x="6302" y="10439"/>
                </a:cubicBezTo>
                <a:cubicBezTo>
                  <a:pt x="6336" y="10446"/>
                  <a:pt x="6371" y="10450"/>
                  <a:pt x="6406" y="10457"/>
                </a:cubicBezTo>
                <a:cubicBezTo>
                  <a:pt x="6467" y="10469"/>
                  <a:pt x="6523" y="10493"/>
                  <a:pt x="6567" y="10539"/>
                </a:cubicBezTo>
                <a:cubicBezTo>
                  <a:pt x="6646" y="10622"/>
                  <a:pt x="6632" y="10744"/>
                  <a:pt x="6583" y="10838"/>
                </a:cubicBezTo>
                <a:cubicBezTo>
                  <a:pt x="6546" y="10908"/>
                  <a:pt x="6489" y="10974"/>
                  <a:pt x="6424" y="11020"/>
                </a:cubicBezTo>
                <a:cubicBezTo>
                  <a:pt x="6379" y="11052"/>
                  <a:pt x="6324" y="11078"/>
                  <a:pt x="6270" y="11055"/>
                </a:cubicBezTo>
                <a:cubicBezTo>
                  <a:pt x="6225" y="11036"/>
                  <a:pt x="6234" y="11000"/>
                  <a:pt x="6242" y="10962"/>
                </a:cubicBezTo>
              </a:path>
              <a:path w="2588" h="1822">
                <a:moveTo>
                  <a:pt x="6786" y="10705"/>
                </a:moveTo>
                <a:cubicBezTo>
                  <a:pt x="6768" y="10741"/>
                  <a:pt x="6761" y="10772"/>
                  <a:pt x="6756" y="10812"/>
                </a:cubicBezTo>
                <a:cubicBezTo>
                  <a:pt x="6750" y="10862"/>
                  <a:pt x="6748" y="10914"/>
                  <a:pt x="6764" y="10962"/>
                </a:cubicBezTo>
                <a:cubicBezTo>
                  <a:pt x="6776" y="10996"/>
                  <a:pt x="6805" y="11027"/>
                  <a:pt x="6844" y="11024"/>
                </a:cubicBezTo>
                <a:cubicBezTo>
                  <a:pt x="6888" y="11021"/>
                  <a:pt x="6929" y="10980"/>
                  <a:pt x="6952" y="10946"/>
                </a:cubicBezTo>
                <a:cubicBezTo>
                  <a:pt x="6982" y="10902"/>
                  <a:pt x="7003" y="10843"/>
                  <a:pt x="7003" y="10790"/>
                </a:cubicBezTo>
                <a:cubicBezTo>
                  <a:pt x="7003" y="10743"/>
                  <a:pt x="6985" y="10702"/>
                  <a:pt x="6942" y="10680"/>
                </a:cubicBezTo>
                <a:cubicBezTo>
                  <a:pt x="6905" y="10661"/>
                  <a:pt x="6852" y="10669"/>
                  <a:pt x="6815" y="10685"/>
                </a:cubicBezTo>
                <a:cubicBezTo>
                  <a:pt x="6777" y="10701"/>
                  <a:pt x="6769" y="10719"/>
                  <a:pt x="6781" y="10753"/>
                </a:cubicBezTo>
              </a:path>
              <a:path w="2588" h="1822">
                <a:moveTo>
                  <a:pt x="7169" y="10807"/>
                </a:moveTo>
                <a:cubicBezTo>
                  <a:pt x="7168" y="10829"/>
                  <a:pt x="7165" y="10851"/>
                  <a:pt x="7165" y="10872"/>
                </a:cubicBezTo>
                <a:cubicBezTo>
                  <a:pt x="7165" y="10900"/>
                  <a:pt x="7163" y="10929"/>
                  <a:pt x="7169" y="10956"/>
                </a:cubicBezTo>
                <a:cubicBezTo>
                  <a:pt x="7173" y="10975"/>
                  <a:pt x="7181" y="10994"/>
                  <a:pt x="7194" y="11008"/>
                </a:cubicBezTo>
                <a:cubicBezTo>
                  <a:pt x="7197" y="11010"/>
                  <a:pt x="7201" y="11012"/>
                  <a:pt x="7204" y="11014"/>
                </a:cubicBezTo>
                <a:cubicBezTo>
                  <a:pt x="7197" y="10968"/>
                  <a:pt x="7197" y="10920"/>
                  <a:pt x="7198" y="10874"/>
                </a:cubicBezTo>
                <a:cubicBezTo>
                  <a:pt x="7199" y="10825"/>
                  <a:pt x="7204" y="10774"/>
                  <a:pt x="7215" y="10726"/>
                </a:cubicBezTo>
                <a:cubicBezTo>
                  <a:pt x="7222" y="10695"/>
                  <a:pt x="7238" y="10630"/>
                  <a:pt x="7274" y="10618"/>
                </a:cubicBezTo>
                <a:cubicBezTo>
                  <a:pt x="7278" y="10618"/>
                  <a:pt x="7282" y="10618"/>
                  <a:pt x="7286" y="10618"/>
                </a:cubicBezTo>
                <a:cubicBezTo>
                  <a:pt x="7305" y="10636"/>
                  <a:pt x="7317" y="10647"/>
                  <a:pt x="7328" y="10674"/>
                </a:cubicBezTo>
                <a:cubicBezTo>
                  <a:pt x="7339" y="10700"/>
                  <a:pt x="7345" y="10733"/>
                  <a:pt x="7363" y="10755"/>
                </a:cubicBezTo>
                <a:cubicBezTo>
                  <a:pt x="7370" y="10767"/>
                  <a:pt x="7373" y="10772"/>
                  <a:pt x="7383" y="10775"/>
                </a:cubicBezTo>
                <a:cubicBezTo>
                  <a:pt x="7405" y="10751"/>
                  <a:pt x="7412" y="10729"/>
                  <a:pt x="7428" y="10700"/>
                </a:cubicBezTo>
                <a:cubicBezTo>
                  <a:pt x="7439" y="10680"/>
                  <a:pt x="7459" y="10641"/>
                  <a:pt x="7486" y="10637"/>
                </a:cubicBezTo>
                <a:cubicBezTo>
                  <a:pt x="7522" y="10632"/>
                  <a:pt x="7534" y="10689"/>
                  <a:pt x="7540" y="10711"/>
                </a:cubicBezTo>
                <a:cubicBezTo>
                  <a:pt x="7559" y="10787"/>
                  <a:pt x="7567" y="10865"/>
                  <a:pt x="7580" y="10942"/>
                </a:cubicBezTo>
                <a:cubicBezTo>
                  <a:pt x="7586" y="10976"/>
                  <a:pt x="7588" y="11027"/>
                  <a:pt x="7617" y="11052"/>
                </a:cubicBezTo>
                <a:cubicBezTo>
                  <a:pt x="7633" y="11059"/>
                  <a:pt x="7639" y="11062"/>
                  <a:pt x="7651" y="11058"/>
                </a:cubicBezTo>
              </a:path>
              <a:path w="2588" h="1822">
                <a:moveTo>
                  <a:pt x="7649" y="10324"/>
                </a:moveTo>
                <a:cubicBezTo>
                  <a:pt x="7647" y="10305"/>
                  <a:pt x="7647" y="10299"/>
                  <a:pt x="7640" y="10289"/>
                </a:cubicBezTo>
                <a:cubicBezTo>
                  <a:pt x="7640" y="10341"/>
                  <a:pt x="7648" y="10394"/>
                  <a:pt x="7652" y="10446"/>
                </a:cubicBezTo>
                <a:cubicBezTo>
                  <a:pt x="7663" y="10579"/>
                  <a:pt x="7672" y="10712"/>
                  <a:pt x="7689" y="10845"/>
                </a:cubicBezTo>
                <a:cubicBezTo>
                  <a:pt x="7696" y="10898"/>
                  <a:pt x="7693" y="10915"/>
                  <a:pt x="7723" y="10926"/>
                </a:cubicBezTo>
                <a:cubicBezTo>
                  <a:pt x="7738" y="10887"/>
                  <a:pt x="7750" y="10847"/>
                  <a:pt x="7766" y="10809"/>
                </a:cubicBezTo>
                <a:cubicBezTo>
                  <a:pt x="7783" y="10769"/>
                  <a:pt x="7812" y="10698"/>
                  <a:pt x="7864" y="10693"/>
                </a:cubicBezTo>
                <a:cubicBezTo>
                  <a:pt x="7901" y="10690"/>
                  <a:pt x="7927" y="10734"/>
                  <a:pt x="7939" y="10762"/>
                </a:cubicBezTo>
                <a:cubicBezTo>
                  <a:pt x="7957" y="10804"/>
                  <a:pt x="7969" y="10858"/>
                  <a:pt x="7966" y="10904"/>
                </a:cubicBezTo>
                <a:cubicBezTo>
                  <a:pt x="7962" y="10971"/>
                  <a:pt x="7927" y="11026"/>
                  <a:pt x="7865" y="11052"/>
                </a:cubicBezTo>
                <a:cubicBezTo>
                  <a:pt x="7836" y="11064"/>
                  <a:pt x="7794" y="11067"/>
                  <a:pt x="7765" y="11055"/>
                </a:cubicBezTo>
                <a:cubicBezTo>
                  <a:pt x="7750" y="11046"/>
                  <a:pt x="7745" y="11045"/>
                  <a:pt x="7741" y="11034"/>
                </a:cubicBezTo>
              </a:path>
              <a:path w="2588" h="1822">
                <a:moveTo>
                  <a:pt x="8240" y="10768"/>
                </a:moveTo>
                <a:cubicBezTo>
                  <a:pt x="8236" y="10743"/>
                  <a:pt x="8234" y="10724"/>
                  <a:pt x="8215" y="10705"/>
                </a:cubicBezTo>
                <a:cubicBezTo>
                  <a:pt x="8197" y="10687"/>
                  <a:pt x="8170" y="10686"/>
                  <a:pt x="8148" y="10696"/>
                </a:cubicBezTo>
                <a:cubicBezTo>
                  <a:pt x="8111" y="10712"/>
                  <a:pt x="8082" y="10748"/>
                  <a:pt x="8064" y="10783"/>
                </a:cubicBezTo>
                <a:cubicBezTo>
                  <a:pt x="8041" y="10828"/>
                  <a:pt x="8024" y="10888"/>
                  <a:pt x="8045" y="10936"/>
                </a:cubicBezTo>
                <a:cubicBezTo>
                  <a:pt x="8058" y="10966"/>
                  <a:pt x="8083" y="10984"/>
                  <a:pt x="8115" y="10984"/>
                </a:cubicBezTo>
                <a:cubicBezTo>
                  <a:pt x="8151" y="10984"/>
                  <a:pt x="8178" y="10968"/>
                  <a:pt x="8202" y="10943"/>
                </a:cubicBezTo>
                <a:cubicBezTo>
                  <a:pt x="8230" y="10914"/>
                  <a:pt x="8242" y="10876"/>
                  <a:pt x="8251" y="10837"/>
                </a:cubicBezTo>
                <a:cubicBezTo>
                  <a:pt x="8259" y="10805"/>
                  <a:pt x="8260" y="10772"/>
                  <a:pt x="8262" y="10739"/>
                </a:cubicBezTo>
                <a:cubicBezTo>
                  <a:pt x="8266" y="10769"/>
                  <a:pt x="8270" y="10799"/>
                  <a:pt x="8276" y="10829"/>
                </a:cubicBezTo>
                <a:cubicBezTo>
                  <a:pt x="8284" y="10866"/>
                  <a:pt x="8295" y="10902"/>
                  <a:pt x="8312" y="10936"/>
                </a:cubicBezTo>
                <a:cubicBezTo>
                  <a:pt x="8326" y="10964"/>
                  <a:pt x="8337" y="10972"/>
                  <a:pt x="8364" y="10974"/>
                </a:cubicBezTo>
                <a:cubicBezTo>
                  <a:pt x="8383" y="10976"/>
                  <a:pt x="8391" y="10972"/>
                  <a:pt x="8408" y="10964"/>
                </a:cubicBezTo>
              </a:path>
              <a:path w="2588" h="1822">
                <a:moveTo>
                  <a:pt x="8488" y="10726"/>
                </a:moveTo>
                <a:cubicBezTo>
                  <a:pt x="8479" y="10740"/>
                  <a:pt x="8476" y="10733"/>
                  <a:pt x="8472" y="10749"/>
                </a:cubicBezTo>
                <a:cubicBezTo>
                  <a:pt x="8464" y="10787"/>
                  <a:pt x="8459" y="10831"/>
                  <a:pt x="8463" y="10869"/>
                </a:cubicBezTo>
                <a:cubicBezTo>
                  <a:pt x="8466" y="10899"/>
                  <a:pt x="8473" y="10951"/>
                  <a:pt x="8500" y="10970"/>
                </a:cubicBezTo>
                <a:cubicBezTo>
                  <a:pt x="8526" y="10989"/>
                  <a:pt x="8560" y="10975"/>
                  <a:pt x="8584" y="10960"/>
                </a:cubicBezTo>
                <a:cubicBezTo>
                  <a:pt x="8638" y="10926"/>
                  <a:pt x="8683" y="10854"/>
                  <a:pt x="8717" y="10801"/>
                </a:cubicBezTo>
                <a:cubicBezTo>
                  <a:pt x="8728" y="10783"/>
                  <a:pt x="8731" y="10778"/>
                  <a:pt x="8738" y="10766"/>
                </a:cubicBezTo>
                <a:cubicBezTo>
                  <a:pt x="8731" y="10802"/>
                  <a:pt x="8723" y="10839"/>
                  <a:pt x="8719" y="10876"/>
                </a:cubicBezTo>
                <a:cubicBezTo>
                  <a:pt x="8710" y="10968"/>
                  <a:pt x="8721" y="11058"/>
                  <a:pt x="8731" y="11149"/>
                </a:cubicBezTo>
                <a:cubicBezTo>
                  <a:pt x="8747" y="11297"/>
                  <a:pt x="8754" y="11444"/>
                  <a:pt x="8654" y="11567"/>
                </a:cubicBezTo>
                <a:cubicBezTo>
                  <a:pt x="8592" y="11644"/>
                  <a:pt x="8502" y="11703"/>
                  <a:pt x="8408" y="11735"/>
                </a:cubicBezTo>
                <a:cubicBezTo>
                  <a:pt x="8352" y="11754"/>
                  <a:pt x="8235" y="11789"/>
                  <a:pt x="8186" y="11733"/>
                </a:cubicBezTo>
                <a:cubicBezTo>
                  <a:pt x="8170" y="11689"/>
                  <a:pt x="8167" y="11672"/>
                  <a:pt x="8183" y="11639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Ink 10"/>
          <p:cNvSpPr/>
          <p:nvPr/>
        </p:nvSpPr>
        <p:spPr>
          <a:xfrm>
            <a:off x="3294000" y="3800520"/>
            <a:ext cx="108000" cy="125280"/>
          </a:xfrm>
          <a:custGeom>
            <a:avLst/>
            <a:gdLst/>
            <a:ahLst/>
            <a:rect l="l" t="t" r="r" b="b"/>
            <a:pathLst>
              <a:path w="301" h="345">
                <a:moveTo>
                  <a:pt x="9240" y="10759"/>
                </a:moveTo>
                <a:cubicBezTo>
                  <a:pt x="9234" y="10742"/>
                  <a:pt x="9220" y="10740"/>
                  <a:pt x="9210" y="10721"/>
                </a:cubicBezTo>
                <a:cubicBezTo>
                  <a:pt x="9189" y="10679"/>
                  <a:pt x="9210" y="10613"/>
                  <a:pt x="9242" y="10582"/>
                </a:cubicBezTo>
                <a:cubicBezTo>
                  <a:pt x="9247" y="10578"/>
                  <a:pt x="9252" y="10574"/>
                  <a:pt x="9257" y="10570"/>
                </a:cubicBezTo>
                <a:cubicBezTo>
                  <a:pt x="9285" y="10559"/>
                  <a:pt x="9305" y="10555"/>
                  <a:pt x="9333" y="10570"/>
                </a:cubicBezTo>
                <a:cubicBezTo>
                  <a:pt x="9375" y="10592"/>
                  <a:pt x="9399" y="10636"/>
                  <a:pt x="9410" y="10680"/>
                </a:cubicBezTo>
                <a:cubicBezTo>
                  <a:pt x="9420" y="10720"/>
                  <a:pt x="9418" y="10758"/>
                  <a:pt x="9401" y="10796"/>
                </a:cubicBezTo>
                <a:cubicBezTo>
                  <a:pt x="9388" y="10826"/>
                  <a:pt x="9363" y="10854"/>
                  <a:pt x="9332" y="10867"/>
                </a:cubicBezTo>
                <a:cubicBezTo>
                  <a:pt x="9305" y="10878"/>
                  <a:pt x="9276" y="10871"/>
                  <a:pt x="9254" y="10854"/>
                </a:cubicBezTo>
                <a:cubicBezTo>
                  <a:pt x="9227" y="10833"/>
                  <a:pt x="9215" y="10808"/>
                  <a:pt x="9204" y="10777"/>
                </a:cubicBezTo>
                <a:cubicBezTo>
                  <a:pt x="9190" y="10736"/>
                  <a:pt x="9192" y="10696"/>
                  <a:pt x="9210" y="10657"/>
                </a:cubicBezTo>
                <a:cubicBezTo>
                  <a:pt x="9221" y="10634"/>
                  <a:pt x="9231" y="10630"/>
                  <a:pt x="9252" y="10620"/>
                </a:cubicBezTo>
                <a:cubicBezTo>
                  <a:pt x="9288" y="10625"/>
                  <a:pt x="9310" y="10636"/>
                  <a:pt x="9331" y="10669"/>
                </a:cubicBezTo>
                <a:cubicBezTo>
                  <a:pt x="9353" y="10703"/>
                  <a:pt x="9362" y="10746"/>
                  <a:pt x="9356" y="10786"/>
                </a:cubicBezTo>
                <a:cubicBezTo>
                  <a:pt x="9350" y="10824"/>
                  <a:pt x="9333" y="10840"/>
                  <a:pt x="9302" y="10857"/>
                </a:cubicBezTo>
                <a:cubicBezTo>
                  <a:pt x="9270" y="10857"/>
                  <a:pt x="9248" y="10848"/>
                  <a:pt x="9228" y="10820"/>
                </a:cubicBezTo>
                <a:cubicBezTo>
                  <a:pt x="9204" y="10787"/>
                  <a:pt x="9191" y="10737"/>
                  <a:pt x="9191" y="10696"/>
                </a:cubicBezTo>
                <a:cubicBezTo>
                  <a:pt x="9191" y="10660"/>
                  <a:pt x="9200" y="10612"/>
                  <a:pt x="9229" y="10587"/>
                </a:cubicBezTo>
                <a:cubicBezTo>
                  <a:pt x="9236" y="10583"/>
                  <a:pt x="9244" y="10579"/>
                  <a:pt x="9251" y="10575"/>
                </a:cubicBezTo>
                <a:cubicBezTo>
                  <a:pt x="9292" y="10570"/>
                  <a:pt x="9312" y="10576"/>
                  <a:pt x="9341" y="10608"/>
                </a:cubicBezTo>
                <a:cubicBezTo>
                  <a:pt x="9368" y="10638"/>
                  <a:pt x="9382" y="10677"/>
                  <a:pt x="9379" y="10718"/>
                </a:cubicBezTo>
                <a:cubicBezTo>
                  <a:pt x="9376" y="10761"/>
                  <a:pt x="9347" y="10805"/>
                  <a:pt x="9302" y="10814"/>
                </a:cubicBezTo>
                <a:cubicBezTo>
                  <a:pt x="9257" y="10823"/>
                  <a:pt x="9218" y="10791"/>
                  <a:pt x="9196" y="10754"/>
                </a:cubicBezTo>
                <a:cubicBezTo>
                  <a:pt x="9167" y="10705"/>
                  <a:pt x="9167" y="10635"/>
                  <a:pt x="9207" y="10593"/>
                </a:cubicBezTo>
                <a:cubicBezTo>
                  <a:pt x="9228" y="10571"/>
                  <a:pt x="9249" y="10569"/>
                  <a:pt x="9276" y="10563"/>
                </a:cubicBezTo>
                <a:cubicBezTo>
                  <a:pt x="9312" y="10575"/>
                  <a:pt x="9339" y="10585"/>
                  <a:pt x="9356" y="10622"/>
                </a:cubicBezTo>
                <a:cubicBezTo>
                  <a:pt x="9381" y="10678"/>
                  <a:pt x="9355" y="10741"/>
                  <a:pt x="9314" y="10781"/>
                </a:cubicBezTo>
                <a:cubicBezTo>
                  <a:pt x="9294" y="10800"/>
                  <a:pt x="9265" y="10817"/>
                  <a:pt x="9237" y="10808"/>
                </a:cubicBezTo>
                <a:cubicBezTo>
                  <a:pt x="9232" y="10805"/>
                  <a:pt x="9226" y="10802"/>
                  <a:pt x="9221" y="10799"/>
                </a:cubicBezTo>
                <a:cubicBezTo>
                  <a:pt x="9202" y="10770"/>
                  <a:pt x="9192" y="10746"/>
                  <a:pt x="9198" y="10709"/>
                </a:cubicBezTo>
                <a:cubicBezTo>
                  <a:pt x="9204" y="10669"/>
                  <a:pt x="9224" y="10630"/>
                  <a:pt x="9256" y="10604"/>
                </a:cubicBezTo>
                <a:cubicBezTo>
                  <a:pt x="9283" y="10583"/>
                  <a:pt x="9302" y="10583"/>
                  <a:pt x="9334" y="10581"/>
                </a:cubicBezTo>
                <a:cubicBezTo>
                  <a:pt x="9368" y="10600"/>
                  <a:pt x="9396" y="10618"/>
                  <a:pt x="9406" y="10659"/>
                </a:cubicBezTo>
                <a:cubicBezTo>
                  <a:pt x="9416" y="10702"/>
                  <a:pt x="9399" y="10750"/>
                  <a:pt x="9375" y="10785"/>
                </a:cubicBezTo>
                <a:cubicBezTo>
                  <a:pt x="9352" y="10818"/>
                  <a:pt x="9317" y="10848"/>
                  <a:pt x="9276" y="10854"/>
                </a:cubicBezTo>
                <a:cubicBezTo>
                  <a:pt x="9228" y="10861"/>
                  <a:pt x="9184" y="10825"/>
                  <a:pt x="9168" y="10782"/>
                </a:cubicBezTo>
                <a:cubicBezTo>
                  <a:pt x="9153" y="10742"/>
                  <a:pt x="9157" y="10695"/>
                  <a:pt x="9175" y="10657"/>
                </a:cubicBezTo>
                <a:cubicBezTo>
                  <a:pt x="9192" y="10619"/>
                  <a:pt x="9232" y="10589"/>
                  <a:pt x="9272" y="10578"/>
                </a:cubicBezTo>
                <a:cubicBezTo>
                  <a:pt x="9309" y="10568"/>
                  <a:pt x="9325" y="10579"/>
                  <a:pt x="9356" y="10595"/>
                </a:cubicBezTo>
                <a:cubicBezTo>
                  <a:pt x="9387" y="10629"/>
                  <a:pt x="9404" y="10654"/>
                  <a:pt x="9401" y="10702"/>
                </a:cubicBezTo>
                <a:cubicBezTo>
                  <a:pt x="9398" y="10759"/>
                  <a:pt x="9367" y="10793"/>
                  <a:pt x="9324" y="10826"/>
                </a:cubicBezTo>
                <a:cubicBezTo>
                  <a:pt x="9288" y="10835"/>
                  <a:pt x="9263" y="10839"/>
                  <a:pt x="9234" y="10811"/>
                </a:cubicBezTo>
                <a:cubicBezTo>
                  <a:pt x="9206" y="10783"/>
                  <a:pt x="9198" y="10738"/>
                  <a:pt x="9201" y="10700"/>
                </a:cubicBezTo>
                <a:cubicBezTo>
                  <a:pt x="9205" y="10645"/>
                  <a:pt x="9235" y="10597"/>
                  <a:pt x="9285" y="10575"/>
                </a:cubicBezTo>
                <a:cubicBezTo>
                  <a:pt x="9311" y="10567"/>
                  <a:pt x="9321" y="10564"/>
                  <a:pt x="9339" y="10573"/>
                </a:cubicBezTo>
                <a:cubicBezTo>
                  <a:pt x="9377" y="10596"/>
                  <a:pt x="9403" y="10619"/>
                  <a:pt x="9413" y="10665"/>
                </a:cubicBezTo>
                <a:cubicBezTo>
                  <a:pt x="9423" y="10714"/>
                  <a:pt x="9409" y="10766"/>
                  <a:pt x="9385" y="10809"/>
                </a:cubicBezTo>
                <a:cubicBezTo>
                  <a:pt x="9365" y="10846"/>
                  <a:pt x="9329" y="10881"/>
                  <a:pt x="9286" y="10889"/>
                </a:cubicBezTo>
                <a:cubicBezTo>
                  <a:pt x="9253" y="10895"/>
                  <a:pt x="9232" y="10882"/>
                  <a:pt x="9204" y="10869"/>
                </a:cubicBezTo>
                <a:cubicBezTo>
                  <a:pt x="9157" y="10823"/>
                  <a:pt x="9133" y="10771"/>
                  <a:pt x="9162" y="10706"/>
                </a:cubicBezTo>
                <a:cubicBezTo>
                  <a:pt x="9180" y="10666"/>
                  <a:pt x="9222" y="10634"/>
                  <a:pt x="9263" y="10620"/>
                </a:cubicBezTo>
                <a:cubicBezTo>
                  <a:pt x="9305" y="10606"/>
                  <a:pt x="9356" y="10609"/>
                  <a:pt x="9394" y="10632"/>
                </a:cubicBezTo>
                <a:cubicBezTo>
                  <a:pt x="9432" y="10654"/>
                  <a:pt x="9449" y="10695"/>
                  <a:pt x="9449" y="10738"/>
                </a:cubicBezTo>
                <a:cubicBezTo>
                  <a:pt x="9449" y="10783"/>
                  <a:pt x="9420" y="10827"/>
                  <a:pt x="9388" y="10856"/>
                </a:cubicBezTo>
                <a:cubicBezTo>
                  <a:pt x="9354" y="10887"/>
                  <a:pt x="9311" y="10906"/>
                  <a:pt x="9264" y="10903"/>
                </a:cubicBezTo>
                <a:cubicBezTo>
                  <a:pt x="9254" y="10901"/>
                  <a:pt x="9245" y="10899"/>
                  <a:pt x="9235" y="10897"/>
                </a:cubicBezTo>
                <a:cubicBezTo>
                  <a:pt x="9198" y="10875"/>
                  <a:pt x="9174" y="10857"/>
                  <a:pt x="9168" y="10810"/>
                </a:cubicBezTo>
                <a:cubicBezTo>
                  <a:pt x="9162" y="10764"/>
                  <a:pt x="9185" y="10715"/>
                  <a:pt x="9214" y="10680"/>
                </a:cubicBezTo>
                <a:cubicBezTo>
                  <a:pt x="9244" y="10643"/>
                  <a:pt x="9285" y="10615"/>
                  <a:pt x="9333" y="10608"/>
                </a:cubicBezTo>
                <a:cubicBezTo>
                  <a:pt x="9379" y="10601"/>
                  <a:pt x="9421" y="10627"/>
                  <a:pt x="9423" y="10676"/>
                </a:cubicBezTo>
                <a:cubicBezTo>
                  <a:pt x="9422" y="10685"/>
                  <a:pt x="9421" y="10693"/>
                  <a:pt x="9420" y="10702"/>
                </a:cubicBezTo>
                <a:cubicBezTo>
                  <a:pt x="9404" y="10740"/>
                  <a:pt x="9382" y="10784"/>
                  <a:pt x="9336" y="10793"/>
                </a:cubicBezTo>
                <a:cubicBezTo>
                  <a:pt x="9291" y="10802"/>
                  <a:pt x="9270" y="10763"/>
                  <a:pt x="9257" y="10728"/>
                </a:cubicBezTo>
                <a:cubicBezTo>
                  <a:pt x="9256" y="10699"/>
                  <a:pt x="9251" y="10663"/>
                  <a:pt x="9274" y="10640"/>
                </a:cubicBezTo>
                <a:cubicBezTo>
                  <a:pt x="9290" y="10624"/>
                  <a:pt x="9312" y="10630"/>
                  <a:pt x="9324" y="10646"/>
                </a:cubicBezTo>
                <a:cubicBezTo>
                  <a:pt x="9337" y="10663"/>
                  <a:pt x="9335" y="10690"/>
                  <a:pt x="9328" y="10709"/>
                </a:cubicBezTo>
                <a:cubicBezTo>
                  <a:pt x="9324" y="10722"/>
                  <a:pt x="9306" y="10746"/>
                  <a:pt x="9289" y="10735"/>
                </a:cubicBezTo>
                <a:cubicBezTo>
                  <a:pt x="9278" y="10728"/>
                  <a:pt x="9271" y="10704"/>
                  <a:pt x="9274" y="10691"/>
                </a:cubicBezTo>
                <a:cubicBezTo>
                  <a:pt x="9283" y="10654"/>
                  <a:pt x="9284" y="10700"/>
                  <a:pt x="9283" y="10709"/>
                </a:cubicBezTo>
                <a:cubicBezTo>
                  <a:pt x="9282" y="10717"/>
                  <a:pt x="9271" y="10756"/>
                  <a:pt x="9258" y="10755"/>
                </a:cubicBezTo>
                <a:cubicBezTo>
                  <a:pt x="9234" y="10753"/>
                  <a:pt x="9260" y="10708"/>
                  <a:pt x="9264" y="107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ut, the British were still competing with other European nations for influence in India……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European_settlements_in_India_1501-1739"/>
          <p:cNvPicPr/>
          <p:nvPr/>
        </p:nvPicPr>
        <p:blipFill>
          <a:blip r:embed="rId1"/>
          <a:stretch/>
        </p:blipFill>
        <p:spPr>
          <a:xfrm>
            <a:off x="885960" y="1600200"/>
            <a:ext cx="7372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700-1750: Probl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ritish EIC had Bombay, Calcutta and Madras and at first the British did not want more la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then war broke out between rival Indian princes, and the French interfere – making the Indians trade with France (and not Britai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IC would be forced out of India, unless something changed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bert Clive Conquers Ind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94920"/>
            <a:ext cx="3733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bert Clive worked in an office for the EIC but he was getting bor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IC’s force of armed guards was growing into an army; Clive joined them as an offic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1751 Clive led 500 men against 10,000 French and Indian soldiers and won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Clive_watching_Battle_Plassey"/>
          <p:cNvPicPr/>
          <p:nvPr/>
        </p:nvPicPr>
        <p:blipFill>
          <a:blip r:embed="rId1"/>
          <a:stretch/>
        </p:blipFill>
        <p:spPr>
          <a:xfrm>
            <a:off x="4775040" y="923760"/>
            <a:ext cx="4368960" cy="59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-360" y="228600"/>
            <a:ext cx="39625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ve led the EIC’s army to victory many more times, forcing the French out and making the East India Company very powerful – it wasn’t the British government taking over India – it was a British busines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Clive"/>
          <p:cNvPicPr/>
          <p:nvPr/>
        </p:nvPicPr>
        <p:blipFill>
          <a:blip r:embed="rId1"/>
          <a:stretch/>
        </p:blipFill>
        <p:spPr>
          <a:xfrm>
            <a:off x="4148280" y="0"/>
            <a:ext cx="4995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rom about 1800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D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British Christians tried to change Indian custom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-360" y="1523880"/>
            <a:ext cx="3505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Hindu practice Sati is believed to have originated some 700 years ago in Indi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men burnt themselves after their men were defeated in battles to avoid being taken by the victors. But it came to be seen as a measure of wifely devotion in later years and sometimes relatives would tie-up the wife, forcing her to di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custom was outlawed by India's British rulers in 1829 following demands by Indian reformers. But many Indians were against change – especially when forced by the Britis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day it happens only once every few years – and causes outrage across India and the worl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Sati"/>
          <p:cNvPicPr/>
          <p:nvPr/>
        </p:nvPicPr>
        <p:blipFill>
          <a:blip r:embed="rId1"/>
          <a:stretch/>
        </p:blipFill>
        <p:spPr>
          <a:xfrm>
            <a:off x="3581280" y="1905120"/>
            <a:ext cx="53848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1857-58 Indian Mutiny/The 1857-58 War of Independ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-360" y="16002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ay of Indian soldiers (sepoys) - who were working for the EIC army - was c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 were rumors that the sepoys would have to convert from Hinduism or Islam to Christian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ar Delhi some sepoys murdered their British officers and a revolt started against the British across Ind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y 100’s of British men, women and children were butchered - Cawnpore saw terrible atroc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n the British got their revenge……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http://www.sikhfoundation.org/wp-content/uploads/2012/02/loyal_india_part2/Sikh_Soldiers_in_Battle.jpg"/>
          <p:cNvPicPr/>
          <p:nvPr/>
        </p:nvPicPr>
        <p:blipFill>
          <a:blip r:embed="rId1"/>
          <a:stretch/>
        </p:blipFill>
        <p:spPr>
          <a:xfrm>
            <a:off x="3465360" y="2438280"/>
            <a:ext cx="546912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28600" y="304560"/>
            <a:ext cx="41148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Cawnpore the British made anyone suspected of being a rebel lick the ground where the British had been butche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 rebels were tied to the mouths of cannons and blown to pie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00’s died from both sides, and the relationships between the British and the Indians would never be the same again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india_mutiny"/>
          <p:cNvPicPr/>
          <p:nvPr/>
        </p:nvPicPr>
        <p:blipFill>
          <a:blip r:embed="rId1"/>
          <a:stretch/>
        </p:blipFill>
        <p:spPr>
          <a:xfrm>
            <a:off x="4424400" y="0"/>
            <a:ext cx="471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laffitte</cp:lastModifiedBy>
  <dcterms:modified xsi:type="dcterms:W3CDTF">2012-05-10T16:04:4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